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6.wmf" ContentType="image/x-wmf"/>
  <Override PartName="/ppt/media/image4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0.png" ContentType="image/png"/>
  <Override PartName="/ppt/media/image2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6CA6E-DA79-4FB2-B738-705E3B558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2FBE5-3773-4054-984F-4014E69D1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CE924-E4F7-4545-A4B9-62836B16F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3B8DC-476C-474C-A3E9-B48E9DC3E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835D3-442D-4B8D-85FA-BC489F075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61680-8616-4EF4-BA47-A8ABFCDB8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4F324-787E-4C58-9E8A-054B38645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41E67-D0B8-4CCE-ACAA-7EA204D2B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3ACC6-8912-4D70-BB49-589BA614B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470C1-34BD-4144-91A2-2BC004BD9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7BDF8-3A02-484B-99E6-758D35737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D6931-1EA8-42EE-8343-6C9D8E115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9C158-2B07-4BC5-B927-1E451BB25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9C1C7-5B6E-499D-9670-0B8E9333E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EF805-9395-40FA-AD8B-8CD6C1629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27E36-3DCE-466A-B86B-0A3168E06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8D4B0-F806-47B5-8E7D-99B94ECDA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2B47DD-6A89-4F7E-81E6-F04FEFF63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2FEACF-7E73-4591-8AC6-8ECC275E8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322E02-1C72-49DF-8A9B-7E23AD9E8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A8FFAD-188A-4AFB-AF74-0F89B5F1D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D78418-E740-43CB-ADC8-C43D2E550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AFF06-C341-4393-BD51-77B6C813F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3CBC14-48B0-4B03-BE2E-FDF3ACC87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24860D-ED59-4986-99DC-A947409C5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CEB1BA-3B14-4C2E-B61D-6A138024D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C2CD31-0EA5-4BDE-9D7B-D2FE13E91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297444-96E3-428D-8656-5792C7CC0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51EB03-7589-4CF9-8BC4-BE1C322F1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915B01-BDC3-423D-84B5-374A18491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C5A5E7-540C-42A1-AEF9-EDBFA64F1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13FE3D-8E9B-43D8-BC53-EA3889EF3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DE781B-B3C1-446B-9D86-C0367239A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918C2-A227-40A6-A739-CF59E2AF9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A61C12-5500-4CE4-BD7C-CA3EC4A5F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3B9B5E-361E-496E-96EF-BABC3C84B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6AAE7C-0B2C-4C53-A137-10859D682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E141C4-B1A0-4EA4-BD88-1F08BBB3D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E08819-D955-4F1D-A163-C66ECDE20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DB28A7-5CFF-4308-B306-882594F0A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1CBB5E-2727-45E2-858A-11731CDEE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3A68DA-479F-464E-B616-F6629CED2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2B6E82-1628-479D-B9D3-C72491187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0A0918-B0D3-477C-B84F-B9D7B0471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17D68-C347-4775-922A-EF659336C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681A7A-6EBA-45A2-B84E-633FB74D7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069B0F-568A-4E9E-9546-D2C498A39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BDCBEC-791D-4466-826C-8EA6A020A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08DF35-AD35-49A1-A3B6-E9CF2134F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6FD570-6A56-414A-ADB1-16473BC59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72B588-D91C-4E96-8644-5E7F958FC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7778D1-65E2-4C66-B6E2-5C368D501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4827B4-1D07-4456-AF72-34DBD5803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325F2B-B698-4C5E-B501-B005EF1D2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E4AC83-587D-4E9F-AC65-E4AA6358C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D62B7-8D9F-4BBF-92AD-960A97768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0B838A-2B1B-4475-844D-E72F12EF8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B482B1-109B-4837-9811-2EE8D3C8B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91B40E-21D4-4667-95B4-179C5B14E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7837C1-D895-4C7D-B1F9-B437E0565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F15F10-F53A-4C2B-B9FB-B0AE39104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D211F9-6745-46CE-AB4F-5293B75C2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E97118-D153-4937-99C0-9E881E553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BF0626-7B98-466F-BF5E-65F08A71C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504539-769B-44BA-AD8C-DE58512B7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B96216-A027-41AB-9CCB-111D77FA9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B9C71-556B-448E-9E09-A01958EAC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9EFD4B-42D3-4335-9312-69B8E136C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4C462E-12FE-46C6-AFB7-275EC96DA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2E6D06-063C-41CF-AB53-54F6C5DBC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F99242-2CC4-4144-9051-331852792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7C388B-8561-42DB-890E-E2F5D5975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F2835C-061F-4D2C-9245-26D42E3BF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80D1C0-4244-40BD-8702-809139EC4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64E78B-AA83-4E87-B6CD-A391E3C68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B1EA8D-2764-4C9E-9DA9-E28617332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3654B4-AEA2-49E2-93DA-064BDB635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F1577-B484-4FDE-BB9F-264152721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16F151-37D7-4FE7-9211-6BAE45C10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1C3755-09D6-4221-9C72-180ECB46F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BB82B4-D16A-44FC-A035-F8BF4BE39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8B40CA-F5AE-47DA-8CCF-6DA3AC76A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45A94D-9E32-40CE-AE87-F6C0F9ED9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B76DA-3019-4B0C-A780-1483CEE90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4fcff">
              <a:alpha val="33000"/>
            </a:srgbClr>
          </a:solidFill>
          <a:ln cap="rnd" w="3240">
            <a:solidFill>
              <a:srgbClr val="a5cb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daf7ff"/>
            </a:solidFill>
            <a:miter/>
          </a:ln>
          <a:effectLst>
            <a:outerShdw dist="12600" dir="5400000" blurRad="0" rotWithShape="0">
              <a:srgbClr val="95aec3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95a7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7fd13b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00add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daec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9F768-8647-4E50-B0F7-811A00A29909}" type="slidenum">
              <a:rPr b="0" lang="en-US" sz="1200" spc="-1" strike="noStrike">
                <a:solidFill>
                  <a:srgbClr val="8daec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6727d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4fcff">
              <a:alpha val="33000"/>
            </a:srgbClr>
          </a:solidFill>
          <a:ln cap="rnd" w="3240">
            <a:solidFill>
              <a:srgbClr val="a5cb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daf7ff"/>
            </a:solidFill>
            <a:miter/>
          </a:ln>
          <a:effectLst>
            <a:outerShdw dist="12600" dir="5400000" blurRad="0" rotWithShape="0">
              <a:srgbClr val="95aec3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6727d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Oval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Oval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Ov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6fb83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95a7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7fd13b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00add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daec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79590-35DB-434B-81DD-ED4E90504243}" type="slidenum">
              <a:rPr b="0" lang="en-US" sz="1200" spc="-1" strike="noStrike">
                <a:solidFill>
                  <a:srgbClr val="8daec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6727d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Oval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Oval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Oval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6fb83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95a7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7fd13b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00add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daec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173DA-8623-4822-87C6-43C34F577E5C}" type="slidenum">
              <a:rPr b="0" lang="en-US" sz="1200" spc="-1" strike="noStrike">
                <a:solidFill>
                  <a:srgbClr val="8daec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95a7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7fd13b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00add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daec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B7761-F577-4A6A-9278-2384A252A3A9}" type="slidenum">
              <a:rPr b="0" lang="en-US" sz="1200" spc="-1" strike="noStrike">
                <a:solidFill>
                  <a:srgbClr val="8daec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6727d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95a7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7fd13b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00add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daec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5CF81-7830-4B7A-9E12-4482273E591B}" type="slidenum">
              <a:rPr b="0" lang="en-US" sz="1200" spc="-1" strike="noStrike">
                <a:solidFill>
                  <a:srgbClr val="8daec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95a7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7fd13b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00add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daec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FAFC5-DBED-4269-8921-BC625ECF6100}" type="slidenum">
              <a:rPr b="0" lang="en-US" sz="1200" spc="-1" strike="noStrike">
                <a:solidFill>
                  <a:srgbClr val="8daec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Rectangle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Rectangle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Flowchart: Proces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b9e3ff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Flowchart: Proces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d6ecff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95a7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7fd13b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00add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daec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0BE89-137B-4DB0-848A-7902B9047854}" type="slidenum">
              <a:rPr b="0" lang="en-US" sz="1200" spc="-1" strike="noStrike">
                <a:solidFill>
                  <a:srgbClr val="8daec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jpe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image" Target="../media/image16.png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11.jpe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21.png"/><Relationship Id="rId10" Type="http://schemas.openxmlformats.org/officeDocument/2006/relationships/image" Target="../media/image16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181480" y="5562360"/>
            <a:ext cx="2819520" cy="6858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53143"/>
                </a:solidFill>
                <a:latin typeface="Cooper Black"/>
              </a:rPr>
              <a:t>Challenge 2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9" name="WordArt 4"/>
          <p:cNvSpPr txBox="1"/>
          <p:nvPr/>
        </p:nvSpPr>
        <p:spPr>
          <a:xfrm>
            <a:off x="228600" y="838080"/>
            <a:ext cx="8686800" cy="221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7fd13b"/>
                </a:solidFill>
                <a:latin typeface="Cooper Black"/>
              </a:rPr>
              <a:t>Science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7fd13b"/>
              </a:solidFill>
              <a:latin typeface="Cooper Black"/>
              <a:ea typeface="Cooper Black"/>
            </a:endParaRPr>
          </a:p>
        </p:txBody>
      </p:sp>
      <p:sp>
        <p:nvSpPr>
          <p:cNvPr id="320" name="Rectangle 15"/>
          <p:cNvSpPr/>
          <p:nvPr/>
        </p:nvSpPr>
        <p:spPr>
          <a:xfrm>
            <a:off x="1219320" y="6477120"/>
            <a:ext cx="6400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L. LaRosa  http://www.middleschoolscience.com  for T. Trimpe 2008   http://sciencespot.net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Picture 16" descr="scistartlogo2"/>
          <p:cNvPicPr/>
          <p:nvPr/>
        </p:nvPicPr>
        <p:blipFill>
          <a:blip r:embed="rId1"/>
          <a:stretch/>
        </p:blipFill>
        <p:spPr>
          <a:xfrm>
            <a:off x="6629400" y="152280"/>
            <a:ext cx="2381400" cy="447840"/>
          </a:xfrm>
          <a:prstGeom prst="rect">
            <a:avLst/>
          </a:prstGeom>
          <a:ln w="0">
            <a:noFill/>
          </a:ln>
        </p:spPr>
      </p:pic>
      <p:sp>
        <p:nvSpPr>
          <p:cNvPr id="322" name="WordArt 17"/>
          <p:cNvSpPr txBox="1"/>
          <p:nvPr/>
        </p:nvSpPr>
        <p:spPr>
          <a:xfrm>
            <a:off x="4114800" y="3200400"/>
            <a:ext cx="449568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00addc"/>
                </a:solidFill>
                <a:latin typeface="Cooper Black"/>
              </a:rPr>
              <a:t>Equipment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00addc"/>
              </a:solidFill>
              <a:latin typeface="Cooper Black"/>
              <a:ea typeface="Cooper Black"/>
            </a:endParaRPr>
          </a:p>
        </p:txBody>
      </p:sp>
      <p:pic>
        <p:nvPicPr>
          <p:cNvPr id="323" name="Picture 7" descr="C:\Documents and Settings\Liz\Local Settings\Temporary Internet Files\Content.IE5\MB5MZXEX\MCj04110470000[1].wmf"/>
          <p:cNvPicPr/>
          <p:nvPr/>
        </p:nvPicPr>
        <p:blipFill>
          <a:blip r:embed="rId2"/>
          <a:stretch/>
        </p:blipFill>
        <p:spPr>
          <a:xfrm>
            <a:off x="533520" y="3429000"/>
            <a:ext cx="2666880" cy="26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786744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95a74"/>
                </a:solidFill>
                <a:latin typeface="Gill Sans MT"/>
              </a:rPr>
              <a:t> </a:t>
            </a:r>
            <a:r>
              <a:rPr b="0" lang="en-US" sz="3600" spc="-1" strike="noStrike">
                <a:solidFill>
                  <a:srgbClr val="495a74"/>
                </a:solidFill>
                <a:latin typeface="Gill Sans MT"/>
              </a:rPr>
              <a:t>Identify the following lab equipment: </a:t>
            </a:r>
            <a:endParaRPr b="0" lang="en-US" sz="3600" spc="-1" strike="noStrike">
              <a:solidFill>
                <a:srgbClr val="495a74"/>
              </a:solidFill>
              <a:latin typeface="Gill Sans MT"/>
            </a:endParaRPr>
          </a:p>
        </p:txBody>
      </p:sp>
      <p:pic>
        <p:nvPicPr>
          <p:cNvPr id="325" name="Rectangle 12" descr=""/>
          <p:cNvPicPr/>
          <p:nvPr/>
        </p:nvPicPr>
        <p:blipFill>
          <a:blip r:embed="rId1"/>
          <a:stretch/>
        </p:blipFill>
        <p:spPr>
          <a:xfrm>
            <a:off x="1773360" y="2554200"/>
            <a:ext cx="969840" cy="828720"/>
          </a:xfrm>
          <a:prstGeom prst="rect">
            <a:avLst/>
          </a:prstGeom>
          <a:ln w="0">
            <a:noFill/>
          </a:ln>
        </p:spPr>
      </p:pic>
      <p:pic>
        <p:nvPicPr>
          <p:cNvPr id="326" name="Rectangle 13" descr=""/>
          <p:cNvPicPr/>
          <p:nvPr/>
        </p:nvPicPr>
        <p:blipFill>
          <a:blip r:embed="rId2"/>
          <a:stretch/>
        </p:blipFill>
        <p:spPr>
          <a:xfrm>
            <a:off x="4127400" y="2859120"/>
            <a:ext cx="987480" cy="828720"/>
          </a:xfrm>
          <a:prstGeom prst="rect">
            <a:avLst/>
          </a:prstGeom>
          <a:ln w="0">
            <a:noFill/>
          </a:ln>
        </p:spPr>
      </p:pic>
      <p:pic>
        <p:nvPicPr>
          <p:cNvPr id="327" name="Rectangle 14" descr=""/>
          <p:cNvPicPr/>
          <p:nvPr/>
        </p:nvPicPr>
        <p:blipFill>
          <a:blip r:embed="rId3"/>
          <a:stretch/>
        </p:blipFill>
        <p:spPr>
          <a:xfrm>
            <a:off x="7248600" y="2938320"/>
            <a:ext cx="987480" cy="822600"/>
          </a:xfrm>
          <a:prstGeom prst="rect">
            <a:avLst/>
          </a:prstGeom>
          <a:ln w="0">
            <a:noFill/>
          </a:ln>
        </p:spPr>
      </p:pic>
      <p:pic>
        <p:nvPicPr>
          <p:cNvPr id="328" name="Rectangle 15" descr=""/>
          <p:cNvPicPr/>
          <p:nvPr/>
        </p:nvPicPr>
        <p:blipFill>
          <a:blip r:embed="rId4"/>
          <a:stretch/>
        </p:blipFill>
        <p:spPr>
          <a:xfrm>
            <a:off x="2828880" y="5681520"/>
            <a:ext cx="987480" cy="82260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13" descr="http://www.columbia.edu/itc/chemistry/chem-cf1500/labpix/images/testtubeholder.jpg"/>
          <p:cNvPicPr/>
          <p:nvPr/>
        </p:nvPicPr>
        <p:blipFill>
          <a:blip r:embed="rId5"/>
          <a:stretch/>
        </p:blipFill>
        <p:spPr>
          <a:xfrm rot="20260200">
            <a:off x="1163520" y="1374480"/>
            <a:ext cx="2210040" cy="94464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16" descr=""/>
          <p:cNvPicPr/>
          <p:nvPr/>
        </p:nvPicPr>
        <p:blipFill>
          <a:blip r:embed="rId6"/>
          <a:stretch/>
        </p:blipFill>
        <p:spPr>
          <a:xfrm>
            <a:off x="3809880" y="762120"/>
            <a:ext cx="2314800" cy="234000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17" descr=""/>
          <p:cNvPicPr/>
          <p:nvPr/>
        </p:nvPicPr>
        <p:blipFill>
          <a:blip r:embed="rId7"/>
          <a:stretch/>
        </p:blipFill>
        <p:spPr>
          <a:xfrm>
            <a:off x="7010280" y="838080"/>
            <a:ext cx="1600200" cy="208296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18" descr=""/>
          <p:cNvPicPr/>
          <p:nvPr/>
        </p:nvPicPr>
        <p:blipFill>
          <a:blip r:embed="rId8"/>
          <a:stretch/>
        </p:blipFill>
        <p:spPr>
          <a:xfrm>
            <a:off x="2057400" y="4191120"/>
            <a:ext cx="2666880" cy="1568160"/>
          </a:xfrm>
          <a:prstGeom prst="rect">
            <a:avLst/>
          </a:prstGeom>
          <a:ln w="0">
            <a:noFill/>
          </a:ln>
        </p:spPr>
      </p:pic>
      <p:pic>
        <p:nvPicPr>
          <p:cNvPr id="333" name="Rectangle 27" descr=""/>
          <p:cNvPicPr/>
          <p:nvPr/>
        </p:nvPicPr>
        <p:blipFill>
          <a:blip r:embed="rId9"/>
          <a:stretch/>
        </p:blipFill>
        <p:spPr>
          <a:xfrm>
            <a:off x="6791400" y="5297400"/>
            <a:ext cx="957240" cy="82872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23" descr="http://www.msnucleus.org/membership/html/k-6/as/scimath/3/images/assm3_5a2.gif"/>
          <p:cNvPicPr/>
          <p:nvPr/>
        </p:nvPicPr>
        <p:blipFill>
          <a:blip r:embed="rId10"/>
          <a:stretch/>
        </p:blipFill>
        <p:spPr>
          <a:xfrm>
            <a:off x="5867280" y="3676680"/>
            <a:ext cx="106704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786744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95a74"/>
                </a:solidFill>
                <a:latin typeface="Gill Sans MT"/>
              </a:rPr>
              <a:t> </a:t>
            </a:r>
            <a:r>
              <a:rPr b="0" lang="en-US" sz="3600" spc="-1" strike="noStrike">
                <a:solidFill>
                  <a:srgbClr val="495a74"/>
                </a:solidFill>
                <a:latin typeface="Gill Sans MT"/>
              </a:rPr>
              <a:t>Identify the following lab equipment: </a:t>
            </a:r>
            <a:endParaRPr b="0" lang="en-US" sz="3600" spc="-1" strike="noStrike">
              <a:solidFill>
                <a:srgbClr val="495a74"/>
              </a:solidFill>
              <a:latin typeface="Gill Sans MT"/>
            </a:endParaRPr>
          </a:p>
        </p:txBody>
      </p:sp>
      <p:pic>
        <p:nvPicPr>
          <p:cNvPr id="336" name="Rectangle 12" descr=""/>
          <p:cNvPicPr/>
          <p:nvPr/>
        </p:nvPicPr>
        <p:blipFill>
          <a:blip r:embed="rId1"/>
          <a:stretch/>
        </p:blipFill>
        <p:spPr>
          <a:xfrm>
            <a:off x="298440" y="2852640"/>
            <a:ext cx="2779560" cy="513000"/>
          </a:xfrm>
          <a:prstGeom prst="rect">
            <a:avLst/>
          </a:prstGeom>
          <a:ln w="0">
            <a:noFill/>
          </a:ln>
        </p:spPr>
      </p:pic>
      <p:pic>
        <p:nvPicPr>
          <p:cNvPr id="337" name="Rectangle 13" descr=""/>
          <p:cNvPicPr/>
          <p:nvPr/>
        </p:nvPicPr>
        <p:blipFill>
          <a:blip r:embed="rId2"/>
          <a:stretch/>
        </p:blipFill>
        <p:spPr>
          <a:xfrm>
            <a:off x="4254480" y="3078000"/>
            <a:ext cx="1566720" cy="513000"/>
          </a:xfrm>
          <a:prstGeom prst="rect">
            <a:avLst/>
          </a:prstGeom>
          <a:ln w="0">
            <a:noFill/>
          </a:ln>
        </p:spPr>
      </p:pic>
      <p:pic>
        <p:nvPicPr>
          <p:cNvPr id="338" name="Rectangle 14" descr=""/>
          <p:cNvPicPr/>
          <p:nvPr/>
        </p:nvPicPr>
        <p:blipFill>
          <a:blip r:embed="rId3"/>
          <a:stretch/>
        </p:blipFill>
        <p:spPr>
          <a:xfrm>
            <a:off x="6089760" y="2925720"/>
            <a:ext cx="2901960" cy="512640"/>
          </a:xfrm>
          <a:prstGeom prst="rect">
            <a:avLst/>
          </a:prstGeom>
          <a:ln w="0">
            <a:noFill/>
          </a:ln>
        </p:spPr>
      </p:pic>
      <p:pic>
        <p:nvPicPr>
          <p:cNvPr id="339" name="Rectangle 15" descr=""/>
          <p:cNvPicPr/>
          <p:nvPr/>
        </p:nvPicPr>
        <p:blipFill>
          <a:blip r:embed="rId4"/>
          <a:stretch/>
        </p:blipFill>
        <p:spPr>
          <a:xfrm>
            <a:off x="2200320" y="5668920"/>
            <a:ext cx="1792080" cy="51264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13" descr="http://www.columbia.edu/itc/chemistry/chem-cf1500/labpix/images/testtubeholder.jpg"/>
          <p:cNvPicPr/>
          <p:nvPr/>
        </p:nvPicPr>
        <p:blipFill>
          <a:blip r:embed="rId5"/>
          <a:stretch/>
        </p:blipFill>
        <p:spPr>
          <a:xfrm rot="20260200">
            <a:off x="1163520" y="1374480"/>
            <a:ext cx="2210040" cy="94464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16" descr=""/>
          <p:cNvPicPr/>
          <p:nvPr/>
        </p:nvPicPr>
        <p:blipFill>
          <a:blip r:embed="rId6"/>
          <a:stretch/>
        </p:blipFill>
        <p:spPr>
          <a:xfrm>
            <a:off x="3809880" y="762120"/>
            <a:ext cx="2314800" cy="234000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17" descr=""/>
          <p:cNvPicPr/>
          <p:nvPr/>
        </p:nvPicPr>
        <p:blipFill>
          <a:blip r:embed="rId7"/>
          <a:stretch/>
        </p:blipFill>
        <p:spPr>
          <a:xfrm>
            <a:off x="7010280" y="838080"/>
            <a:ext cx="1600200" cy="208296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18" descr=""/>
          <p:cNvPicPr/>
          <p:nvPr/>
        </p:nvPicPr>
        <p:blipFill>
          <a:blip r:embed="rId8"/>
          <a:stretch/>
        </p:blipFill>
        <p:spPr>
          <a:xfrm>
            <a:off x="2057400" y="4191120"/>
            <a:ext cx="2666880" cy="1568160"/>
          </a:xfrm>
          <a:prstGeom prst="rect">
            <a:avLst/>
          </a:prstGeom>
          <a:ln w="0">
            <a:noFill/>
          </a:ln>
        </p:spPr>
      </p:pic>
      <p:pic>
        <p:nvPicPr>
          <p:cNvPr id="344" name="Rectangle 27" descr=""/>
          <p:cNvPicPr/>
          <p:nvPr/>
        </p:nvPicPr>
        <p:blipFill>
          <a:blip r:embed="rId9"/>
          <a:stretch/>
        </p:blipFill>
        <p:spPr>
          <a:xfrm>
            <a:off x="6851520" y="4529160"/>
            <a:ext cx="1981440" cy="87804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23" descr="http://www.msnucleus.org/membership/html/k-6/as/scimath/3/images/assm3_5a2.gif"/>
          <p:cNvPicPr/>
          <p:nvPr/>
        </p:nvPicPr>
        <p:blipFill>
          <a:blip r:embed="rId10"/>
          <a:stretch/>
        </p:blipFill>
        <p:spPr>
          <a:xfrm>
            <a:off x="5867280" y="3676680"/>
            <a:ext cx="106704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1T00:06:52Z</dcterms:created>
  <dc:creator>Liz LaRosa</dc:creator>
  <dc:description/>
  <dc:language>en-US</dc:language>
  <cp:lastModifiedBy>Liz</cp:lastModifiedBy>
  <dcterms:modified xsi:type="dcterms:W3CDTF">2008-08-14T03:17:41Z</dcterms:modified>
  <cp:revision>132</cp:revision>
  <dc:subject/>
  <dc:title>Slide 1</dc:title>
</cp:coreProperties>
</file>